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2EC3-967F-4963-90F8-44C6312BF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EFF0-0789-48F1-94CE-0ACE73AE3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9CCC-2321-4921-A015-CBD5AEDE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99B0-17D1-4C44-95CF-BC61B886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5BE4-3931-4F8D-AC6D-FB02E47A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F720-34C2-44FC-B0F7-2B557F66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47F4-2F1D-4EEC-9E76-0C4D9F62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24DC-3907-40F2-85F7-330852D2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9E19-1D53-4276-888D-50408D74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1D1F-3C79-48DC-937E-C0570881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1C19-E890-4DAB-B1D4-0687611C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4F8C-7738-4046-B1D8-F4BF8D02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109A-46BB-48F1-BD4A-95D3EC4A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67C-5A1C-4B74-942E-1384846D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E228-5376-4700-93B7-6B05DDEAA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Tu descripción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Andrea Chaves</cp:lastModifiedBy>
  <dcterms:modified xsi:type="dcterms:W3CDTF">2012-11-30T15:15:17Z</dcterms:modified>
  <cp:revision>101</cp:revision>
  <dc:subject/>
  <dc:title>Profile</dc:title>
</cp:coreProperties>
</file>